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4D986-4485-42CD-897B-0CF9EFF3FC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91D99-4972-4573-BE85-C79985080D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ple loosestrife = an introduced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tlands plant from Europe - like many species was released acciden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ballast water in ships docked at port (seeds in water)  Also intro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n herbal remed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natural enemies here, so sprea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eliminated many native plants that provide food and cover for wildlife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tlands of Canada and the U.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an on the East Coast and has sp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prolific, spread in water and by livestock that walk through mud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ries the seeds.  20,000 seeds per 1.2 square yards in some a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l plant so shades other native plants and blocks their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stock doesn’t like is to won’t feed on it.  Reduces the carrying capac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grazing a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d to kill.  Regrows from roots if plant is cut, burned or spray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 now is on bringing in natural paras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7D014-1F75-4330-94CA-847A70A2CD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EAB40-1CE5-4E0D-AB91-942FA90C4C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ater evenness in a community appears more diverf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pg 119 fig 7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second picture, is walking through the community would have g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ces of seeing all the different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B01F5-D79E-4755-AE7D-5C69218112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A97AE-BEED-43AD-8F50-92E1910D4A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B65D6-632B-4C18-85E1-4B8229481A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9DB4D-8FF0-4F01-8FF9-3EF2B023E8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numerous groups, with most members know, are the insects and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species have yet to be discovered, many in the tropical rainfore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so many species? Seems to be related to compet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586E0-5C5D-4ACF-A894-F8D1870E84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873E6-5685-4140-B5BE-1218943F33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2CF5A-750D-4347-B10E-A12CA98B0B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56E11-768E-44B1-8A80-193EE64805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y was introduced into GB because it was “cut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out-competing the Red Squirrel which is n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wint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ys eat acorns from oa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do well since most of the areas have oak (It is the dominant larg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s may ago extinct in the next 20 years (if not….will be left to areas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t have any oak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50026-EDE4-47E4-8DA2-0D60F60FC9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3205F-E393-44F7-ADF5-BFB575F8E6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DD281-5B0B-446D-9CC5-278BEA89F6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1C470-8ED4-4F94-AA6E-DED62CF55A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tchinson is the scientist who first suggested this 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flat worm stucy on page 125.  Fig 7.6  Also barnacle example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 bo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ave an endangered species we must make sure that all the life requirements for that species are pres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99160-97A7-41CA-93F6-97349D5012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81A82-D40B-47A2-ABAB-DB1FAC68BF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21D49-99F6-48BA-B64A-08123C3BD2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200C9-B1FF-4BF1-A1E7-F866D79CC1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7A47D-2E48-487D-8789-90B1F103D5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0D401-4E44-4DD6-8144-D7F8034229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876 A.R. Wallace suggested idea or real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arctic = North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otropial = cental and south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laearctic = europe, north asia and north af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ental = indian subcontinent and malay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stralian = au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CC867-8C45-44DB-BB2A-F6B29A8EDB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C7735-61D2-446C-9A38-2369A21912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90E43-DB82-407C-8B07-A6E9E36D2B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6435A-3F23-44BB-AE2B-AF93CD6D65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examples = fish and marine mammals,  birds and bats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5B4DB-D176-4F6B-9DB3-BB5939392F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7FC43-66AC-4E73-9ED9-FCF76C517D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5EACC-5922-46AB-A1F4-AE11E0BDFF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D3539-9853-41A3-B8A4-1AA7BE7FAC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aptive radiation: classic example is Darwin’s finc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 diversity and is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and 2) smaller islands have fewer types of habita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less likely to be found by migr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sk of extinction is higher for smaller pops and smaller islan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they can only support smaller pops (see pg 13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Sources of species on islands = evolution and migration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rther away = fewer migra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igration and speciation rate - extinction rate = # of species on is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nds to maintain at a constant 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3E52B-41E4-4852-9A00-576BE2F7EE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61862-207C-4BCA-B7C1-53CE8A6824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DFCAE-BE58-4285-96AE-3BF044BB0F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92D31-37A0-491D-9329-0F2ACC4B1C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680BA-9FCB-4404-B601-117C816979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D0D9E-7155-4E31-AF78-48B1841D02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5AC52-D459-420D-ADED-E75C2C0F1E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4D01-F482-4318-8EAE-1F49185E0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D151-F095-4769-A3BD-5575E12D7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D115-90C2-4709-95DC-BFF341FA6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29B4-4D37-4A84-87A5-173B23E32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CDBB-B3E9-4A40-A6EF-45DCA93DE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964B-0B3E-4292-BD12-B2964602F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95AC-17FA-4E2D-98D2-DADBD8287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2EF6-032F-46E9-8F44-0F8754B16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676E-CC8F-42A6-ADBE-453344568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3F15-1D63-478C-8784-C5291E173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8863-E3C9-44AC-AF34-EC8D33173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32D3-F388-484E-B258-3D3FE4A75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8527A-A274-4685-AD47-B782BC97CA63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hapter 7 and 8 - Biological Diversity and Biogeograph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437920" y="1905120"/>
            <a:ext cx="4419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8989"/>
                </a:solidFill>
                <a:latin typeface="Calibri"/>
              </a:rPr>
              <a:t>Case Study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8989"/>
                </a:solidFill>
                <a:latin typeface="Calibri"/>
              </a:rPr>
              <a:t>Salmon Importance!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ic Concepts of Biodivers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838080" y="1447560"/>
            <a:ext cx="83059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 major concep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  Genetic d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 Habitat diversit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  Species diversity: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. 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Species richness –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b.  Species evenness –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c.  Species dominance -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1</a:t>
            </a:r>
            <a:r>
              <a:rPr b="0" lang="en-US" sz="4400" spc="-1" strike="noStrike" u="sng" baseline="30000">
                <a:solidFill>
                  <a:srgbClr val="000000"/>
                </a:solidFill>
                <a:uFillTx/>
                <a:latin typeface="Calibri"/>
              </a:rPr>
              <a:t>st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 Hw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2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hannon-Weiner Biodiversity Index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Read and do sample problem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how all work and solve for H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’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lso:  Calculate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Calibri"/>
              </a:rPr>
              <a:t>Evenness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or each problem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000000"/>
                </a:solidFill>
                <a:uFillTx/>
                <a:latin typeface="Calibri"/>
              </a:rPr>
              <a:t>Evenness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ormula =   H’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/ ln 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 = number of different speci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Absolute evenness = 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1760" y="838080"/>
            <a:ext cx="7313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000000"/>
                </a:solidFill>
                <a:uFillTx/>
                <a:latin typeface="Calibri"/>
              </a:rPr>
              <a:t>2</a:t>
            </a:r>
            <a:r>
              <a:rPr b="1" lang="en-US" sz="2900" spc="-1" strike="noStrike" u="sng" baseline="30000">
                <a:solidFill>
                  <a:srgbClr val="000000"/>
                </a:solidFill>
                <a:uFillTx/>
                <a:latin typeface="Calibri"/>
              </a:rPr>
              <a:t>nd</a:t>
            </a:r>
            <a:r>
              <a:rPr b="1" lang="en-US" sz="2900" spc="-1" strike="noStrike" u="sng">
                <a:solidFill>
                  <a:srgbClr val="000000"/>
                </a:solidFill>
                <a:uFillTx/>
                <a:latin typeface="Calibri"/>
              </a:rPr>
              <a:t> Hwk and Pre-lab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14040" y="1447920"/>
            <a:ext cx="77691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Pre-lab work: Do #1 as hwk. (On separate pap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lculate S-W biodiversity index for both pictures (fig. 7.4) on page 123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olve for 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alibri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and Evennes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how all work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Answer pre-lab questions in lab notebook (on title page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#2 and 3 become your hypothesis (under purpose on title pg. for upcoming lab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-11880"/>
            <a:ext cx="7313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762120" y="8377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cies habitat ter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otic = introduced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demic = na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smopolitan - very broad distributio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Calibri"/>
              </a:rPr>
              <a:t>but need similar habita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biquitous = found almost everywhere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Calibri"/>
              </a:rPr>
              <a:t>even very different habitats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many species on Earth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8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Uncertai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rior to fogging study: Range =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1 - 3 mill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fter study: 10 -100 million!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5" descr="a collage of biodiversity-related images. Copyright of Flinders University. Individual images used with permission."/>
          <p:cNvPicPr/>
          <p:nvPr/>
        </p:nvPicPr>
        <p:blipFill>
          <a:blip r:embed="rId1"/>
          <a:stretch/>
        </p:blipFill>
        <p:spPr>
          <a:xfrm>
            <a:off x="4724280" y="1600200"/>
            <a:ext cx="40388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teractions Between Spec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09480" y="1066680"/>
            <a:ext cx="83822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ind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 Competition:  negative for bo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369800" y="228240"/>
            <a:ext cx="7313400" cy="571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 Symbiosis:  both benef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very common; exists amongst most plants and anim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369800" y="0"/>
            <a:ext cx="7313400" cy="594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 Predation - parasitism:  positiv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one and negative for th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t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1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456840"/>
            <a:ext cx="830592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clusion Dominance and Diversity: The Competitive Princi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etitive exclusion = 2 species with exact same requirements cannot coexist in the same habitat.  They will compete and the more fit one will win out and pers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-22896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at is biological evolutio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295280" y="990360"/>
            <a:ext cx="731376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It’s the change in inherited characteristics of a population from generation to generation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What are some process that lead to biological evolution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4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5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72840" y="244440"/>
            <a:ext cx="690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09480" y="-360"/>
            <a:ext cx="8305920" cy="716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iche: how species co-exi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habitat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 org lives as compared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wha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t does to survive, which is its’ ecological nich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cies that require the same resources can coexist only if they can utilize them under different env. conditions (different ecological niche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69800" y="140400"/>
            <a:ext cx="7313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cies that require the same resources can coexist only if they can utilize them under different env. conditions (different ecological niche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-1231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5440" y="457200"/>
            <a:ext cx="84582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iches can be measur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ange of niche a species will occupy with no competitor is called its’ fundamental nic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ange in which it actually lives, if it is having to compete, is called its’ realized nic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nvironmental Factors That Influence Diversity!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versity varies from place to pl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erally, greater in lower latitu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72840" y="14400"/>
            <a:ext cx="690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04560" y="533520"/>
            <a:ext cx="830556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ological gradient:  the change in relative abundance of a species over an area (ie: change in elevation in the mtns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6" descr="F7_10"/>
          <p:cNvPicPr/>
          <p:nvPr/>
        </p:nvPicPr>
        <p:blipFill>
          <a:blip r:embed="rId1"/>
          <a:stretch/>
        </p:blipFill>
        <p:spPr>
          <a:xfrm>
            <a:off x="304920" y="2514600"/>
            <a:ext cx="88390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-2379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440" y="-360"/>
            <a:ext cx="792468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ctors that increase or decrease diversit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Calibri"/>
              </a:rPr>
              <a:t>Increase diversit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1.  Physically diverse habita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2. 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Calibri"/>
              </a:rPr>
              <a:t>Moderate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disturb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3.  Small variation in env. condition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4.  High diversity at one trophic level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   increases diversity of another lev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849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33160" y="-380880"/>
            <a:ext cx="8458200" cy="723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Calibri"/>
              </a:rPr>
              <a:t>Decrease divers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1.  Environmental stres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2.  Extreme environmental condition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3.  Severe limitation of an essential resour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4.  Extreme disturb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5.  Recent exotic speci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6.  Geographic isolation (island effect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06600" y="14400"/>
            <a:ext cx="6905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440" y="609120"/>
            <a:ext cx="84582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umans greatly affect diversity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velopment and indust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voring one species over ano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ipulating environ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cies diversity in an area may change over time, seasons, decades, centuries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-64764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Geography of Lif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5800" y="53352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kinds and numbers of species varies greatly from place to place.  These large-scale global patterns are called biogeograph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5" descr="F7_11"/>
          <p:cNvPicPr/>
          <p:nvPr/>
        </p:nvPicPr>
        <p:blipFill>
          <a:blip r:embed="rId1"/>
          <a:stretch/>
        </p:blipFill>
        <p:spPr>
          <a:xfrm>
            <a:off x="380880" y="2362320"/>
            <a:ext cx="84582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25560"/>
            <a:ext cx="7313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otic Provi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 “realms” were identified in 1876 based on the types of animals found ther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Remember: classification of orgs are based on evolutionary relationships or similar characteristic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85800" y="837720"/>
            <a:ext cx="83059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utations ma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3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440" y="228600"/>
            <a:ext cx="84582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inental drift explains the origin of these provinces as land masses periodically unified (genetic mix and spread of species) and then separated (isolation and specia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76320"/>
          </a:xfrm>
          <a:prstGeom prst="rect">
            <a:avLst/>
          </a:prstGeom>
          <a:noFill/>
          <a:ln w="0">
            <a:noFill/>
          </a:ln>
        </p:spPr>
        <p:txBody>
          <a:bodyPr tIns="30600" bIns="30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456840"/>
            <a:ext cx="86868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Biom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ch continent has diverse climates and habitats so diversity of species is hig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ome = a kind of eco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ilar environmental conditions (selective pressures) lead to evolution of orgs similar in form and function but not genetic heritage or internal make-up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-849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440" y="0"/>
            <a:ext cx="84582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vergent evolution occurs when a pop. is separated and evolves in isolation from main groups, often under different selective pressures.  They have common ancestry and retain some common characteristics of their ancestors. (ex: marine mammal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0147320" cy="742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6248520" y="6400800"/>
            <a:ext cx="289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2003 John Wiley and Sons Publish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228600" y="228600"/>
            <a:ext cx="4343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 8.10  Evolutionary divergence among honeycreepers in Hawaii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Picture 5" descr="F8_10"/>
          <p:cNvPicPr/>
          <p:nvPr/>
        </p:nvPicPr>
        <p:blipFill>
          <a:blip r:embed="rId1"/>
          <a:stretch/>
        </p:blipFill>
        <p:spPr>
          <a:xfrm>
            <a:off x="1143000" y="843120"/>
            <a:ext cx="7238880" cy="54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-161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85440" y="457200"/>
            <a:ext cx="84582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Island Biogeograph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erally observe adaptive radiation: species evolve b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divergent evolu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s they separate into smaller groups, often on different islands, each adapting to a more specialized role (nich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ecies diversity and island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6248520" y="6400800"/>
            <a:ext cx="289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2003 John Wiley and Sons Publish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228600" y="228600"/>
            <a:ext cx="4343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 8.11 Idealized relation of an island’s size, distance from the mainland, and number of species. Pg 138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Picture 5" descr="F8_11"/>
          <p:cNvPicPr/>
          <p:nvPr/>
        </p:nvPicPr>
        <p:blipFill>
          <a:blip r:embed="rId1"/>
          <a:stretch/>
        </p:blipFill>
        <p:spPr>
          <a:xfrm>
            <a:off x="0" y="1066680"/>
            <a:ext cx="8610480" cy="53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228600"/>
            <a:ext cx="830592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atural Sel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lies on variation of individuals within a species.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Genetic diversity is key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ose orgs with traits that make them better fit or adapted survive well, reproduce more and pass these helpful traits on to their offspr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eppered moth = classic example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85800" y="22860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peciation (evolution of a new speci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  Geographic isolation of two populations of the same spec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 They each evolve separate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ventually differences accumul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6201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"/>
          <p:cNvSpPr/>
          <p:nvPr/>
        </p:nvSpPr>
        <p:spPr>
          <a:xfrm>
            <a:off x="3352680" y="2971800"/>
            <a:ext cx="335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oductive isolation can occur due to mutations to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Line 4"/>
          <p:cNvSpPr/>
          <p:nvPr/>
        </p:nvSpPr>
        <p:spPr>
          <a:xfrm>
            <a:off x="5486400" y="3581280"/>
            <a:ext cx="16002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85800" y="-360"/>
            <a:ext cx="830592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Migr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During migration different selective pressures may be encountered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Populations may become separated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Genetic Drif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hanges in gene frequency of a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population due to chance - not due to being better adapted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May greatly impact small population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Dangerous for rare and endangered spec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0066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bottleneck"/>
          <p:cNvPicPr/>
          <p:nvPr/>
        </p:nvPicPr>
        <p:blipFill>
          <a:blip r:embed="rId1"/>
          <a:stretch/>
        </p:blipFill>
        <p:spPr>
          <a:xfrm>
            <a:off x="380880" y="685800"/>
            <a:ext cx="8458200" cy="5715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8"/>
          <p:cNvSpPr/>
          <p:nvPr/>
        </p:nvSpPr>
        <p:spPr>
          <a:xfrm>
            <a:off x="533520" y="58672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 hunting left only 2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4876920" y="586728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w individuals left – why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7T02:27:05Z</dcterms:created>
  <dc:creator>santiago high school</dc:creator>
  <dc:description/>
  <dc:language>en-US</dc:language>
  <cp:lastModifiedBy>infosys</cp:lastModifiedBy>
  <dcterms:modified xsi:type="dcterms:W3CDTF">2013-10-10T20:55:53Z</dcterms:modified>
  <cp:revision>61</cp:revision>
  <dc:subject/>
  <dc:title>Chapter 7 - Biological Diversity and Biogeography</dc:title>
</cp:coreProperties>
</file>